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8A5A2-4DAA-467B-B5E1-A2A119708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1273-C6CB-4AF5-B049-0C733C12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A36A0-B45A-4F58-B7C5-B5C4C30F0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1A66B-25B3-43B5-B166-671216235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A0447-EE89-4453-83B4-B4116F857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092D2-01C1-4F4E-B587-96C21E49D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392AA-C9E7-45AC-975B-DEA3334F5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28F99-1644-4C18-BF04-463538027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39359-FC1B-4DD0-9F3A-69D0909C1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F6A1F-8AE1-48D2-91C0-15E011B64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F203D-0E11-4CC6-AF62-B915441BF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76A8-EDFB-40D8-A03E-B9EEA61EF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28412-77E7-4979-BF5A-E954AB51D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E3C8E-0F2C-4B64-A8D9-433900F8E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02EB9-8853-46AC-8F10-385F5F70E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D03F9-FC8A-4CCB-B96B-BEA00B78C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F2EE9-F401-49F7-B2B6-9F7FDEB3D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93BA-A95B-45EF-84B6-D2469E603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7D7B9-BB37-49D1-8003-1890AEDFB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FE52-E20D-4E7C-942C-6C04FBB5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3BE7-8B7C-4768-90CB-ED7C40D0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4739-0F14-4C8A-96E7-00D2FD8BB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01E7-7358-486F-861C-5061306C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7337-DFC7-4EA3-9C10-9C9228BEA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406A-51E2-4DD3-840A-FD9E2E34025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3752-A084-4D2E-A9B4-DBFE45AF209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cc"/>
                </a:solidFill>
                <a:latin typeface="Arial"/>
              </a:rPr>
              <a:t>All in the Family</a:t>
            </a:r>
            <a:endParaRPr b="0" lang="en-US" sz="6300" spc="-1" strike="noStrike">
              <a:solidFill>
                <a:srgbClr val="ffffcc"/>
              </a:solidFill>
              <a:latin typeface="Arial"/>
            </a:endParaRPr>
          </a:p>
        </p:txBody>
      </p:sp>
      <p:sp>
        <p:nvSpPr>
          <p:cNvPr id="11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t Portfolio Presentation</a:t>
            </a:r>
            <a:endParaRPr b="0" lang="en-US" sz="3200" spc="-1" strike="noStrike">
              <a:solidFill>
                <a:srgbClr val="eaeaea"/>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athleen Kellner</a:t>
            </a: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 Summary</a:t>
            </a:r>
            <a:endParaRPr b="0" lang="en-US" sz="4400" spc="-1" strike="noStrike">
              <a:solidFill>
                <a:srgbClr val="ffffcc"/>
              </a:solidFill>
              <a:latin typeface="Arial"/>
            </a:endParaRPr>
          </a:p>
        </p:txBody>
      </p:sp>
      <p:sp>
        <p:nvSpPr>
          <p:cNvPr id="11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 this unit, students will engage in a variety of </a:t>
            </a:r>
            <a:r>
              <a:rPr b="0" lang="en-US" sz="2400" spc="-1" strike="noStrike">
                <a:solidFill>
                  <a:srgbClr val="eaeaea"/>
                </a:solidFill>
                <a:latin typeface="Verdana"/>
              </a:rPr>
              <a:t>activities</a:t>
            </a:r>
            <a:r>
              <a:rPr b="0" lang="en-US" sz="2000" spc="-1" strike="noStrike">
                <a:solidFill>
                  <a:srgbClr val="eaeaea"/>
                </a:solidFill>
                <a:latin typeface="Verdana"/>
              </a:rPr>
              <a:t> to discover what is a living and nonliving thing, including how a plant grows and change.  Each student will document on a daily basis how a plant changes and grows in their life cycle diary.  Each group will create its own Movie Maker slideshow on the life cycle of a plant and present it to the class.   They will use their ability to observe, record information, and apply it to telling time and measurement in mathematics. Students will also be responsible for researching and document their life cycle diary. </a:t>
            </a:r>
            <a:endParaRPr b="0" lang="en-US" sz="20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urriculum-Framing Question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ssential Question </a:t>
            </a:r>
            <a:br>
              <a:rPr sz="2800"/>
            </a:br>
            <a:r>
              <a:rPr b="1" lang="en-US" sz="2000" spc="-1" strike="noStrike">
                <a:solidFill>
                  <a:srgbClr val="eaeaea"/>
                </a:solidFill>
                <a:latin typeface="Verdana"/>
              </a:rPr>
              <a:t>Are all living things related?</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Unit Questions</a:t>
            </a:r>
            <a:br>
              <a:rPr sz="2800"/>
            </a:br>
            <a:r>
              <a:rPr b="1" lang="en-US" sz="2000" spc="-1" strike="noStrike">
                <a:solidFill>
                  <a:srgbClr val="eaeaea"/>
                </a:solidFill>
                <a:latin typeface="Verdana"/>
              </a:rPr>
              <a:t>What is a living thing?</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a nonliving thing?</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do plants need?</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do plants grow and change?</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can I use technology to document a life cycle?</a:t>
            </a: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ontent Questions</a:t>
            </a:r>
            <a:endParaRPr b="0" lang="en-US" sz="2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life cycle of a plant?</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can be used to measure the life cycle of a living thing?</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fe Cycle Project</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106524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ject will help my students develop 21</a:t>
            </a:r>
            <a:r>
              <a:rPr b="0" lang="en-US" sz="3200" spc="-1" strike="noStrike" baseline="30000">
                <a:solidFill>
                  <a:srgbClr val="eaeaea"/>
                </a:solidFill>
                <a:latin typeface="Verdana"/>
              </a:rPr>
              <a:t>st</a:t>
            </a:r>
            <a:r>
              <a:rPr b="0" lang="en-US" sz="3200" spc="-1" strike="noStrike">
                <a:solidFill>
                  <a:srgbClr val="eaeaea"/>
                </a:solidFill>
                <a:latin typeface="Verdana"/>
              </a:rPr>
              <a:t> century skills by:</a:t>
            </a:r>
            <a:endParaRPr b="0" lang="en-US" sz="3200" spc="-1" strike="noStrike">
              <a:solidFill>
                <a:srgbClr val="eaeaea"/>
              </a:solidFill>
              <a:latin typeface="Verdana"/>
            </a:endParaRPr>
          </a:p>
        </p:txBody>
      </p:sp>
      <p:sp>
        <p:nvSpPr>
          <p:cNvPr id="124" name=""/>
          <p:cNvSpPr/>
          <p:nvPr/>
        </p:nvSpPr>
        <p:spPr>
          <a:xfrm>
            <a:off x="1523880" y="2666880"/>
            <a:ext cx="7239240" cy="2113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llaborating with peers.</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zing data about lifecycles and being able to present them to a selected audience.</a:t>
            </a:r>
            <a:endParaRPr b="0" lang="en-US" sz="2400" spc="-1" strike="noStrike">
              <a:solidFill>
                <a:srgbClr val="eaeaea"/>
              </a:solidFill>
              <a:latin typeface="Arial"/>
            </a:endParaRPr>
          </a:p>
          <a:p>
            <a:pPr marL="231840" indent="-23184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3960" y="32508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auging Student Needs Assessment</a:t>
            </a:r>
            <a:endParaRPr b="0" lang="en-US" sz="3600" spc="-1" strike="noStrike">
              <a:solidFill>
                <a:srgbClr val="ffffcc"/>
              </a:solidFill>
              <a:latin typeface="Arial"/>
            </a:endParaRPr>
          </a:p>
        </p:txBody>
      </p:sp>
      <p:sp>
        <p:nvSpPr>
          <p:cNvPr id="126" name=""/>
          <p:cNvSpPr/>
          <p:nvPr/>
        </p:nvSpPr>
        <p:spPr>
          <a:xfrm>
            <a:off x="1371600" y="1295280"/>
            <a:ext cx="716292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Purpose of the Assessmen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To gather information about what students already know and what they wonder about life cycle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I want to learn from my student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ant to find out what they already know about the Unit Questions and what they know about technology. (Digital Camera  and  Microsoft programs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I have tried to promote higher-order thinking?</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ill ask students to find relationships and draw conclusions about life cycles.</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How the assessment information helps me and my students plan for upcoming activities in the unit?</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f students have confusion with the technology being used, I can provide more opportunities to practice to become more comfortable with the selected technology. </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Garamond"/>
                <a:ea typeface="Arial"/>
              </a:rPr>
              <a:t>What feedback or additional ideas I’d lik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Garamond"/>
                <a:ea typeface="Arial"/>
              </a:rPr>
              <a:t>I would like more support with Microsoft Movie Maker. I came across some difficulties that took some time to figure out. That would make me more comfortable for when I need to teach it to 1st grader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nd ways to get my students more interested in learning scien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about different kinds of technology my students and I can us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8" name="PlaceHolder 2"/>
          <p:cNvSpPr>
            <a:spLocks noGrp="1"/>
          </p:cNvSpPr>
          <p:nvPr>
            <p:ph type="title"/>
          </p:nvPr>
        </p:nvSpPr>
        <p:spPr>
          <a:xfrm>
            <a:off x="1130040" y="301320"/>
            <a:ext cx="740412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y Goals for the Cours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3960" y="507600"/>
            <a:ext cx="718056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for My Students </a:t>
            </a:r>
            <a:endParaRPr b="0" lang="en-US" sz="4400" spc="-1" strike="noStrike">
              <a:solidFill>
                <a:srgbClr val="ffffcc"/>
              </a:solidFill>
              <a:latin typeface="Arial"/>
            </a:endParaRPr>
          </a:p>
        </p:txBody>
      </p:sp>
      <p:sp>
        <p:nvSpPr>
          <p:cNvPr id="130"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together to create a movie  presentation appropriate for a selected audience.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ther, analyze, organize, reflect, and process information about the life cycle of a plan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ke connections between themselves, and the lifecycles of other organisms in our world.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quest for Feedback</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helping students take more responsibility for their own lear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additional technology resources that could be used in comparison to Microsoft Movie Mak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as for other animals that could be used in our classroom for following a life cycl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Kathy Kellner</cp:lastModifiedBy>
  <dcterms:modified xsi:type="dcterms:W3CDTF">2010-08-24T19:18:19Z</dcterms:modified>
  <cp:revision>2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